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0FF-2236-4722-A85E-2CA48707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28E-3CC1-48B2-8E4C-26B13AD6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721-5EF6-4062-8E98-B61FD7A8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9AB-AAC8-4DC1-B46A-CE98388C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49C-A0A9-4DBF-B7CA-C0E60EE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969-62A2-4BA3-A33A-3C0B3F00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C43-79F1-4E15-B389-26F17844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55F-E01F-4654-A3D6-F8A56DA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704-866E-4D01-91E5-B070AE16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CC1-B922-492F-A16F-80107AAA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861-9C0D-4FAF-B448-7D887F1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C76-91E7-44E6-B061-5CEB1BF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F7E4F-2604-4A85-AEF1-545122AD187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5:37:23Z</dcterms:created>
  <dc:creator>Ing Ming Loh</dc:creator>
  <dc:description/>
  <dc:language>en-US</dc:language>
  <cp:lastModifiedBy>Ing Ming Loh</cp:lastModifiedBy>
  <dcterms:modified xsi:type="dcterms:W3CDTF">2018-10-15T05:37:55Z</dcterms:modified>
  <cp:revision>1</cp:revision>
  <dc:subject/>
  <dc:title>PowerPoint Presentation</dc:title>
</cp:coreProperties>
</file>