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EBB0-B951-4C52-81F3-1B37F4EB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031A-5255-4303-9907-A001A23A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924E-B055-47D7-B676-AA523572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2E7C-E7E2-4A23-BA39-6EE74419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95BD-9224-4EAB-A278-1D054CDA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3E69-CB63-43D6-A9B5-D09856F6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BF63-3B85-48B9-84A3-4DDDAA31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CA66-A701-4922-B780-3578F175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50AD-6E9E-4C72-86A8-2825951D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293C-0511-4562-8A19-1F43412F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85B4-9EFA-4497-992E-82F40BF5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F9F-11D1-4F44-8698-0DB530DF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EA9DD2-C1BB-4E32-BD67-A826072378D2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5:39:22Z</dcterms:created>
  <dc:creator>Ing Ming Loh</dc:creator>
  <dc:description/>
  <dc:language>en-US</dc:language>
  <cp:lastModifiedBy>Ing Ming Loh</cp:lastModifiedBy>
  <dcterms:modified xsi:type="dcterms:W3CDTF">2018-10-15T05:39:50Z</dcterms:modified>
  <cp:revision>1</cp:revision>
  <dc:subject/>
  <dc:title>PowerPoint Presentation</dc:title>
</cp:coreProperties>
</file>