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251-51FF-4D1F-BB42-8D6C1A7F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5CE-ED52-4561-BDAA-1B1DB419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728-B225-42FD-B4FB-058EC84B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F7A-D808-4ACD-A5B7-8A6F7F7C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DB8-8618-4A58-952A-2114EF0D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3F2-C59C-495F-9911-0BF9BAA2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387-4873-4638-8118-3F34797F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7C0-9DDD-4095-B966-4F3709BB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F1D-38EF-4291-9158-90CCB687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F4E-FEA8-41B9-8084-C83AAFA6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561-BEFA-4DB4-8803-77126F09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E3A-508F-4F94-A88D-D4A1D851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F640C-EEC4-49D6-9C01-D8246CB410A3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5:51:49Z</dcterms:created>
  <dc:creator>Ing Ming Loh</dc:creator>
  <dc:description/>
  <dc:language>en-US</dc:language>
  <cp:lastModifiedBy>Ing Ming Loh</cp:lastModifiedBy>
  <dcterms:modified xsi:type="dcterms:W3CDTF">2018-10-15T05:52:14Z</dcterms:modified>
  <cp:revision>1</cp:revision>
  <dc:subject/>
  <dc:title>PowerPoint Presentation</dc:title>
</cp:coreProperties>
</file>