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EE9-934F-49A9-9432-B0B45F7F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E31-8C71-4204-9E33-7E771EB5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778-5140-4D06-977B-6EFAB606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3C3-4CDC-4EDB-A295-649D67D6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CFB-D109-4F35-91B1-C1A069F1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4AB-DD20-4F3F-95EB-0C4BFDFD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8B0-90A4-42CD-A058-D2E5C99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B7C-6A4F-4614-BE0B-4AFDDE5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FB7-E1B2-463C-BC82-40C72DB7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E4E-922D-4E89-8A99-CBCA8416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759-1498-4063-B070-064D567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E64-A079-4E20-B5E3-D0340489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28D-F7B8-4CE9-92A4-273A072CE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j3"/>
          <p:cNvPicPr/>
          <p:nvPr/>
        </p:nvPicPr>
        <p:blipFill>
          <a:blip r:embed="rId1"/>
          <a:stretch/>
        </p:blipFill>
        <p:spPr>
          <a:xfrm>
            <a:off x="9360" y="-3240"/>
            <a:ext cx="91346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j5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6"/>
          <p:cNvPicPr/>
          <p:nvPr/>
        </p:nvPicPr>
        <p:blipFill>
          <a:blip r:embed="rId1"/>
          <a:stretch/>
        </p:blipFill>
        <p:spPr>
          <a:xfrm>
            <a:off x="23760" y="-6480"/>
            <a:ext cx="9120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32:32Z</dcterms:created>
  <dc:creator>DEll</dc:creator>
  <dc:description/>
  <dc:language>en-US</dc:language>
  <cp:lastModifiedBy>DEll</cp:lastModifiedBy>
  <dcterms:modified xsi:type="dcterms:W3CDTF">2011-05-26T07:44:32Z</dcterms:modified>
  <cp:revision>1</cp:revision>
  <dc:subject/>
  <dc:title>PowerPoint Presentation</dc:title>
</cp:coreProperties>
</file>