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FC1D-6FC0-473B-9028-07295935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F52-EC4E-491F-9696-8D6752DD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46DA-17FD-4851-BD57-A1E7E614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9E6-99BA-4120-9F48-E319F1C3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CB0-2B47-4B22-920B-359B777C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CA0-2AEB-4E1B-BB3B-FC768C10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2AB8-4F89-4C26-A9EF-C271D65A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4B04-B13E-4B53-BF4B-B965B1B3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2D0-F500-4F9B-8710-AC60FEB4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1E78-4AFC-4DA0-8117-4FA5BAD8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DBB-EBB7-4687-8F2E-D85D4D8A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F65-B363-4B45-9497-5F2EDB5A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47F6C-7802-4660-9CA3-8B857EC4D829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5:56:27Z</dcterms:created>
  <dc:creator>Ing Ming Loh</dc:creator>
  <dc:description/>
  <dc:language>en-US</dc:language>
  <cp:lastModifiedBy>Ing Ming Loh</cp:lastModifiedBy>
  <dcterms:modified xsi:type="dcterms:W3CDTF">2018-10-15T05:57:02Z</dcterms:modified>
  <cp:revision>1</cp:revision>
  <dc:subject/>
  <dc:title>PowerPoint Presentation</dc:title>
</cp:coreProperties>
</file>