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1BE-08CC-4356-827E-B7A3BA42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424-0E45-4BD2-85D8-B71B7FC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AFF-F8CB-4E74-8272-E51BD707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9B6-8C8D-490D-9A6E-547E570E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EE3-4DC5-4C18-AF9D-4731567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097-9660-4787-9ABD-D394DFE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C79-7CBE-48B0-B938-D1DD5927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520-19AB-4CAB-BABA-E04FB9A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398-CD67-4F88-897B-1611886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1C-D233-4ABB-8AF4-78E54E7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9E3-906D-4BAA-A355-BD073DA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0D5-A001-4835-BFAD-5D8CF13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5D564-F71F-44AE-B6E9-8103DFDFD48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02:33Z</dcterms:created>
  <dc:creator>Ing Ming Loh</dc:creator>
  <dc:description/>
  <dc:language>en-US</dc:language>
  <cp:lastModifiedBy>Ing Ming Loh</cp:lastModifiedBy>
  <dcterms:modified xsi:type="dcterms:W3CDTF">2018-10-15T06:03:04Z</dcterms:modified>
  <cp:revision>1</cp:revision>
  <dc:subject/>
  <dc:title>PowerPoint Presentation</dc:title>
</cp:coreProperties>
</file>