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710E-E9F5-4A9A-AB0E-16763C33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E8F0-83F7-41B7-9F41-B43D24770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E9344-7F66-440C-B833-13C8C64D0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0840-9CD2-4BD7-A4EF-F4995B0DCD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AA43-8974-4AEA-82B7-A556B63E0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1E2BD-DECB-4498-ACFD-26BB70D6E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3294-A24B-416A-993B-8BC2F5CDE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E82B-C985-4254-9246-3E77957F4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DC75-8802-45CD-AA44-B7245D05D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B5E4-70B9-46E3-8A81-A7248CACF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051F-7C8F-47C9-8CAC-8F9914D15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2DA0-B272-4C1F-9249-80F8A610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MY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MY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1EC5A5-7EBD-4032-85D4-981670A6B67A}" type="slidenum">
              <a:rPr b="0" lang="en-MY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0-15T06:04:51Z</dcterms:created>
  <dc:creator>Ing Ming Loh</dc:creator>
  <dc:description/>
  <dc:language>en-US</dc:language>
  <cp:lastModifiedBy>Ing Ming Loh</cp:lastModifiedBy>
  <dcterms:modified xsi:type="dcterms:W3CDTF">2018-10-15T06:05:23Z</dcterms:modified>
  <cp:revision>1</cp:revision>
  <dc:subject/>
  <dc:title>PowerPoint Presentation</dc:title>
</cp:coreProperties>
</file>