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5A9-C240-4158-99BD-7738D95C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904B-9323-46F2-A570-3C8CC17A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8B15-4E2B-4432-BDB7-1A674F57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1574-F187-46D0-87A4-1C9E0277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BA43-8F29-4334-BD84-C514DEB9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ACB-5CE2-42BE-A429-7BA416CF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79F-807D-496C-BA42-35F9BABA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7B02-6244-461E-9259-7D2DDBDF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FE9-CD19-47C3-95B2-5A830CFE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53F-8026-4CDB-8DE2-A590BEDF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47A3-0817-41F4-8BDF-B1B61612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EA01-2DEE-4040-885F-9385DC55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69D8-7D57-4B34-853E-3689D1606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y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y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y5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07:04Z</dcterms:created>
  <dc:creator>DEll</dc:creator>
  <dc:description/>
  <dc:language>en-US</dc:language>
  <cp:lastModifiedBy>DEll</cp:lastModifiedBy>
  <dcterms:modified xsi:type="dcterms:W3CDTF">2011-05-26T07:44:20Z</dcterms:modified>
  <cp:revision>1</cp:revision>
  <dc:subject/>
  <dc:title>PowerPoint Presentation</dc:title>
</cp:coreProperties>
</file>