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6C0-DE90-4E6A-A1B5-7FFFF737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AA6-6E72-4707-BF15-9DF00AF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435-74FD-4A59-87F9-BD674A9A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73A-3522-4F72-9648-081BF86F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40E-B9AF-43B5-85AC-EFDEA69D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722-B234-423F-96B3-04854FA4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A90-0F5C-45A0-9E1F-91EDC3AB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3EF-039B-4A83-AD4A-15A96370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C76-722C-43B1-98AE-077CD5CC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8C1-D8E4-49BF-A466-1267DCB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9E0-AF8D-4A7E-A79B-3596240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EEA-F5CC-4A52-A9DB-284F89F7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1FC06-705E-4473-8F4A-4DB31D41220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12:20Z</dcterms:created>
  <dc:creator>Ing Ming Loh</dc:creator>
  <dc:description/>
  <dc:language>en-US</dc:language>
  <cp:lastModifiedBy>Ing Ming Loh</cp:lastModifiedBy>
  <dcterms:modified xsi:type="dcterms:W3CDTF">2018-10-15T06:12:49Z</dcterms:modified>
  <cp:revision>1</cp:revision>
  <dc:subject/>
  <dc:title>PowerPoint Presentation</dc:title>
</cp:coreProperties>
</file>