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28A-0468-4A28-B8AD-60EFAFFC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C34-E1E0-4F34-B6DB-A3B09BCA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6F0-5028-4687-B2FE-7D303F49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5EE-83CB-476F-9618-280BFA9F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7BA-E1D8-4933-9A31-E8703D35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B71-A66A-40D1-AFFD-BE5EA23B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812-F5B1-4826-8274-0A2E6071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4A6-AF2B-4B67-8C0B-2F032FF9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990-023A-463F-8F55-E2245C0E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AAC-CCA0-47D2-860D-662AC97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419-6063-4367-85E5-30436EED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C9C-5780-4606-AEA0-B3117BF8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909A5-88C5-428A-84B3-26BD58FAB591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6:14:27Z</dcterms:created>
  <dc:creator>Ing Ming Loh</dc:creator>
  <dc:description/>
  <dc:language>en-US</dc:language>
  <cp:lastModifiedBy>Ing Ming Loh</cp:lastModifiedBy>
  <dcterms:modified xsi:type="dcterms:W3CDTF">2018-10-15T06:14:45Z</dcterms:modified>
  <cp:revision>1</cp:revision>
  <dc:subject/>
  <dc:title>PowerPoint Presentation</dc:title>
</cp:coreProperties>
</file>