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825-4FC3-44E4-8356-D1445759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2BE-C20C-4C7D-A4F0-6AA6C3C5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096-5174-4C3A-94B9-0D2791A1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C00-E89F-47B1-9EF0-32C5C41B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62B-8CCE-4C8B-A3E1-B307E6BE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EE87-994C-4BC6-A84B-B3690999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06B-8A8C-44FB-BB36-C57E8AE8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93B-85DA-4478-ABBB-9F0F8661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C42-5963-41D0-B225-1276B10B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077-5DC0-4CE3-9BBA-6291E19A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E8A-CF92-47F2-BAF8-ACC333B5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A43-CED9-47DE-944C-710E7811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272FE-DEA6-488C-B0E7-4A5EE6F33FA8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6:22:45Z</dcterms:created>
  <dc:creator>Ing Ming Loh</dc:creator>
  <dc:description/>
  <dc:language>en-US</dc:language>
  <cp:lastModifiedBy>Ing Ming Loh</cp:lastModifiedBy>
  <dcterms:modified xsi:type="dcterms:W3CDTF">2018-10-15T06:27:22Z</dcterms:modified>
  <cp:revision>1</cp:revision>
  <dc:subject/>
  <dc:title>PowerPoint Presentation</dc:title>
</cp:coreProperties>
</file>