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28F-138E-4E8E-A5E4-FC582062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B08-2014-41E7-BEDB-24C546F3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AAE-B889-42F8-A73B-4878A77D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B65-3553-4734-BE9B-17DDF245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91E-2442-4682-8A5E-44746AD8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626-4E78-4ED0-B72B-A60BD889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E23-BC4F-450F-B14D-5CEF69A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795-309C-44F7-8CDD-1221FD32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7F2-3244-4AC5-BA79-655168E7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F05-D1E6-47C8-B5FA-E03AC9B2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B7E-EAF9-4AE9-B751-4A880CEF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E16-CE8B-4342-BCC6-1AF208BD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699E1-0A97-4305-906C-85C681759CD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6:32:54Z</dcterms:created>
  <dc:creator>Ing Ming Loh</dc:creator>
  <dc:description/>
  <dc:language>en-US</dc:language>
  <cp:lastModifiedBy>Ing Ming Loh</cp:lastModifiedBy>
  <dcterms:modified xsi:type="dcterms:W3CDTF">2018-10-15T06:33:21Z</dcterms:modified>
  <cp:revision>1</cp:revision>
  <dc:subject/>
  <dc:title>PowerPoint Presentation</dc:title>
</cp:coreProperties>
</file>