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A54-C796-4FE9-B999-77DF82CE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788-52A7-463D-B2B8-743DF1B0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C75-04A0-47C3-97B7-543294E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4C6-F633-497E-BFBA-3F8726B3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955-AE75-48B5-B369-4E08C1CE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00D-3714-4712-A55F-A58E6F70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B47-57E1-48D0-A7D7-9AD2606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F37-2F1B-4418-94D1-A9800C9E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205-FB55-40FD-932B-DF6B12FF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564-C172-46AC-9576-E01D9FD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05D-B034-43BA-9A7B-8E6AC1A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3C2-08C7-49EA-8851-E52DE9A5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24060-B8A9-447B-B22B-623028CACD25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41:00Z</dcterms:created>
  <dc:creator>Ing Ming Loh</dc:creator>
  <dc:description/>
  <dc:language>en-US</dc:language>
  <cp:lastModifiedBy>Ing Ming Loh</cp:lastModifiedBy>
  <dcterms:modified xsi:type="dcterms:W3CDTF">2018-10-15T06:42:31Z</dcterms:modified>
  <cp:revision>1</cp:revision>
  <dc:subject/>
  <dc:title>PowerPoint Presentation</dc:title>
</cp:coreProperties>
</file>