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F17-92FF-4E3F-A946-057C083C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830-11E6-4396-9211-4563CF0A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957-3647-472B-B2A9-3BA66063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F01-873B-4DDC-828D-9A3EF7A5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E6D-2AC4-425F-A14C-8CAAA62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7E1-BBA9-4DA4-8A87-5F44FB83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F499-9664-4435-A653-05B12AC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DDD-AF80-49D8-919E-F1F84630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197-7243-4477-93A4-9EAB9841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F98-FBB5-479F-BB6E-B8EFAB6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870-882A-4FF2-A774-E190F1A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2F3-119F-4221-B66F-C27F485D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22B5B-84DD-47CA-86F1-EFD16A7C3756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44:18Z</dcterms:created>
  <dc:creator>Ing Ming Loh</dc:creator>
  <dc:description/>
  <dc:language>en-US</dc:language>
  <cp:lastModifiedBy>Ing Ming Loh</cp:lastModifiedBy>
  <dcterms:modified xsi:type="dcterms:W3CDTF">2018-10-15T06:44:44Z</dcterms:modified>
  <cp:revision>1</cp:revision>
  <dc:subject/>
  <dc:title>PowerPoint Presentation</dc:title>
</cp:coreProperties>
</file>