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5D32-32FC-4EBB-B4BF-6149546B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90E-E48F-4463-A81C-E6C29A2B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2FEF-6ED3-436A-8653-3738E497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853-04B6-4507-A0A9-815F9D02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4E4E-B4B7-477E-AF0C-E7BCF975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30C-EAE6-4B75-AD45-E93D8C83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F42-6E97-47C0-9F16-ACFE9F09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304C-6A00-4212-B659-FF8CED0A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2753-E047-4BB5-838A-997703A9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B0B6-E93E-4518-B734-6BFC2BB1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0AB-F5D6-4E2B-B9BE-2E30D8CC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C4E-A7AB-41C2-99B5-D03B44C9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4CE7E-883B-4E04-AF13-8C1939A18BF6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rcRect l="277" t="0" r="0" b="0"/>
          <a:stretch/>
        </p:blipFill>
        <p:spPr>
          <a:xfrm>
            <a:off x="12600" y="4680"/>
            <a:ext cx="91281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7:02:20Z</dcterms:created>
  <dc:creator>Ing Ming Loh</dc:creator>
  <dc:description/>
  <dc:language>en-US</dc:language>
  <cp:lastModifiedBy>tony</cp:lastModifiedBy>
  <dcterms:modified xsi:type="dcterms:W3CDTF">2019-06-26T00:17:0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