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C72-463F-4CE8-BB42-7154C1D9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018-7DAF-47A8-9351-8680E09C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69D-955E-42FD-AEDA-A4C493DF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423-5291-4410-BC18-0793DC50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CD4-2DFC-44E5-ABB6-CC3DAEDA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4EF-5E6B-458F-8B91-EF144DE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B02-F65F-4140-B4D9-7F5E27FA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EAD-4641-4250-B0B4-7756B634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385-0893-4C61-823C-FB126BB0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0A0-426A-4395-A46B-DCD90C7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36C-B50E-4819-B92F-9E69546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A72-B9D8-4E38-849F-8858707A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0D002-57D6-4CA2-81E5-DA4AD76A559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7:05:58Z</dcterms:created>
  <dc:creator>Ing Ming Loh</dc:creator>
  <dc:description/>
  <dc:language>en-US</dc:language>
  <cp:lastModifiedBy>Ing Ming Loh</cp:lastModifiedBy>
  <dcterms:modified xsi:type="dcterms:W3CDTF">2018-10-15T07:06:25Z</dcterms:modified>
  <cp:revision>1</cp:revision>
  <dc:subject/>
  <dc:title>PowerPoint Presentation</dc:title>
</cp:coreProperties>
</file>