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649D-E76A-4D6F-9847-27F744571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AFD7-6B29-43BF-817E-A147CCEA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67A6-CB7E-48AC-9554-1882AACF1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742E-806A-4E99-BB00-D5BD0909E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7210-D85A-4545-87DA-E09F22A9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FE2A-8442-4A1A-9EB6-299E3A81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04F3-561F-4323-B1B1-E51F68E4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DD31-F437-4A8A-8267-936BA7D9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BDCD-1D91-4136-982B-2793395F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F2AD-0C2F-4A61-88DF-8EC33617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F24E-EB41-4197-AD39-F8206A0E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B93F-F9E9-4C65-9F3E-5D8592EE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AE16-D9C1-47F1-959D-8F8FBE8885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e13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e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rcRect l="1569" t="0" r="0" b="0"/>
          <a:stretch/>
        </p:blipFill>
        <p:spPr>
          <a:xfrm>
            <a:off x="34920" y="4680"/>
            <a:ext cx="90741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02:08:43Z</dcterms:created>
  <dc:creator>DEll</dc:creator>
  <dc:description/>
  <dc:language>en-US</dc:language>
  <cp:lastModifiedBy>tony</cp:lastModifiedBy>
  <dcterms:modified xsi:type="dcterms:W3CDTF">2019-06-26T00:25:0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8641</vt:lpwstr>
  </property>
</Properties>
</file>