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BBC8-625B-4A36-8863-0275C39E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CD6E-2BEF-4868-918A-38105FB5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927-18D4-4D51-B4C8-6EE64A72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42B-D58A-49D0-9411-4DDC3354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6CEE-83B2-4A6B-A763-06A1F1AE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25F-93CE-4CFD-8A41-5CFAE8A6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E88D-287F-4119-8952-B4E56799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FF87-194E-463A-84BD-15434F01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38A6-880B-41AA-8EB7-84C0B000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C5F2-D5CA-4B6C-A0BD-B34B9710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3CE-7521-4F58-BCCF-EF34FD53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47A6-3351-4BB1-8D0E-6CFBD784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40EB-AA71-41D2-9669-24CC85158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o1"/>
          <p:cNvPicPr/>
          <p:nvPr/>
        </p:nvPicPr>
        <p:blipFill>
          <a:blip r:embed="rId1"/>
          <a:stretch/>
        </p:blipFill>
        <p:spPr>
          <a:xfrm>
            <a:off x="-38160" y="-547560"/>
            <a:ext cx="9144000" cy="74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o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09:46Z</dcterms:created>
  <dc:creator>DEll</dc:creator>
  <dc:description/>
  <dc:language>en-US</dc:language>
  <cp:lastModifiedBy>DEll</cp:lastModifiedBy>
  <dcterms:modified xsi:type="dcterms:W3CDTF">2011-05-26T07:43:39Z</dcterms:modified>
  <cp:revision>1</cp:revision>
  <dc:subject/>
  <dc:title>PowerPoint Presentation</dc:title>
</cp:coreProperties>
</file>