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F96-FCCF-4FF4-AD46-755506E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421-31B1-4DB7-A99E-5F922706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0A5-95A0-4204-8184-5D79B306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798-F1DE-409E-BEF3-376E4011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6F1-390D-4FFF-84B7-3FFD5E5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BA8-C7F0-44D2-99AD-CE3066F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3E3-5551-4442-A5E6-3B500AA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DE5-6DCB-4108-91B2-794EC6E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0BE-2B3C-4A43-B60D-CDC06537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3C9-E6D6-4552-820F-7672154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E3F-2C3E-484C-B3F6-816DEEE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F05-1024-40F1-A075-77A7120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F11-E785-4A10-8CB6-5365E8346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r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1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14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1:04Z</dcterms:created>
  <dc:creator>DEll</dc:creator>
  <dc:description/>
  <dc:language>en-US</dc:language>
  <cp:lastModifiedBy>DEll</cp:lastModifiedBy>
  <dcterms:modified xsi:type="dcterms:W3CDTF">2011-05-26T07:43:23Z</dcterms:modified>
  <cp:revision>1</cp:revision>
  <dc:subject/>
  <dc:title>PowerPoint Presentation</dc:title>
</cp:coreProperties>
</file>