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D93-55CC-4440-A7E4-6B67DCD3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262-394F-4AD3-9059-F34D7DC9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E7B-6042-4B85-BDE4-BD7FE5B6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9AD-CDB3-468E-934C-4FC666A3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47C-5C29-4C6E-90E5-39838EE7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501-A491-4008-8088-FEC36A0A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F5D-409E-4422-AAD5-2F5CDF02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313-5FBE-481E-A546-FF8CD29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38E-DF61-46F4-B358-745035D4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A81-92E3-49C3-B758-672B941D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D83-09AA-4D78-9F2A-7B44A6E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3DE-C0A8-44A5-B7C3-BC937300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5FF-5C05-4C82-85A9-ADAC29F18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r1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r2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r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12:03Z</dcterms:created>
  <dc:creator>DEll</dc:creator>
  <dc:description/>
  <dc:language>en-US</dc:language>
  <cp:lastModifiedBy>DEll</cp:lastModifiedBy>
  <dcterms:modified xsi:type="dcterms:W3CDTF">2011-05-26T07:43:02Z</dcterms:modified>
  <cp:revision>1</cp:revision>
  <dc:subject/>
  <dc:title>PowerPoint Presentation</dc:title>
</cp:coreProperties>
</file>