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5501-3EC5-4C3A-BAC2-5AA72F54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BD9-C472-4CA1-8DC3-7B2250E5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A32-7C79-4748-BE7E-C75BCA0A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A60-56CF-4CEB-AB5D-226D3B72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3A6-C5BD-4111-B309-E1565A74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6BC-6AC3-4B12-951F-DC05BC46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2D0-1E7A-4B7B-8D5B-7F95643D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43A-CD67-446F-B791-4319E654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FD42-EA03-4293-9D38-1625899C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ED8-3413-470A-8BE6-99F99606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20E1-F455-4F5D-BB4F-0C5ED2E1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4AD-3163-428B-B5AA-541FDBA7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B502-CFFE-4379-BADD-229DC248B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5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8"/>
          <p:cNvPicPr/>
          <p:nvPr/>
        </p:nvPicPr>
        <p:blipFill>
          <a:blip r:embed="rId1"/>
          <a:stretch/>
        </p:blipFill>
        <p:spPr>
          <a:xfrm>
            <a:off x="-20520" y="0"/>
            <a:ext cx="916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12:58Z</dcterms:created>
  <dc:creator>DEll</dc:creator>
  <dc:description/>
  <dc:language>en-US</dc:language>
  <cp:lastModifiedBy>DEll</cp:lastModifiedBy>
  <dcterms:modified xsi:type="dcterms:W3CDTF">2011-05-26T07:42:51Z</dcterms:modified>
  <cp:revision>1</cp:revision>
  <dc:subject/>
  <dc:title>PowerPoint Presentation</dc:title>
</cp:coreProperties>
</file>