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B0D-157F-46C6-8CF5-C079995F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216-2F47-48C2-A3B4-8ACA5BAE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A72-5CAB-4B52-873C-BB8A3C88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95A-A0AA-4ECA-83FE-BFF5DC18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E7E-E9EC-4199-92A9-2893AB71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E14-1190-41F2-974A-1B1773A8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C6D-C135-4964-A106-293A9D6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643-C72C-414E-9C2D-980C168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A25-A19E-4BF1-B7D8-E352A0ED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8D8-0560-4000-815E-FFFE3A6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31D-F55A-4481-9DBF-9918FDC3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0DC-7303-42CC-93DA-17E3F69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0A2-CED3-4B73-8357-3791283BF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2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14:13Z</dcterms:created>
  <dc:creator>DEll</dc:creator>
  <dc:description/>
  <dc:language>en-US</dc:language>
  <cp:lastModifiedBy>DEll</cp:lastModifiedBy>
  <dcterms:modified xsi:type="dcterms:W3CDTF">2011-05-26T07:42:41Z</dcterms:modified>
  <cp:revision>1</cp:revision>
  <dc:subject/>
  <dc:title>PowerPoint Presentation</dc:title>
</cp:coreProperties>
</file>