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DD2-E124-43D7-BEAC-506FF256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A4C-2045-4476-A069-CF036B96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697-3FF1-4DD4-9C6D-00A4997B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1A5-3CC5-4620-B647-7F680F9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8B0-CEA1-4FC7-865D-4C6B9E74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576-97C9-4EE0-808B-3A3F31B5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E4F-73EA-4D09-95EF-4463B76C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2E6-8B95-4BCF-B9B2-9CF17DDD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93F-A4EE-4277-B90B-3D34BD6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C6F-4C87-4E04-AF70-0C67D8A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FBE-10C6-428A-9A54-A5E601A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1FC-8517-4E5D-A1C8-6B62831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06E-CCD1-409E-854F-686EDE3FB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073" descr="pus476-1"/>
          <p:cNvPicPr/>
          <p:nvPr/>
        </p:nvPicPr>
        <p:blipFill>
          <a:blip r:embed="rId1"/>
          <a:stretch/>
        </p:blipFill>
        <p:spPr>
          <a:xfrm>
            <a:off x="82440" y="7776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97" descr="pus476-2"/>
          <p:cNvPicPr/>
          <p:nvPr/>
        </p:nvPicPr>
        <p:blipFill>
          <a:blip r:embed="rId1"/>
          <a:stretch/>
        </p:blipFill>
        <p:spPr>
          <a:xfrm>
            <a:off x="82440" y="7776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121" descr="pus476-3"/>
          <p:cNvPicPr/>
          <p:nvPr/>
        </p:nvPicPr>
        <p:blipFill>
          <a:blip r:embed="rId1"/>
          <a:stretch/>
        </p:blipFill>
        <p:spPr>
          <a:xfrm>
            <a:off x="82440" y="7776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145" descr="pus476-4"/>
          <p:cNvPicPr/>
          <p:nvPr/>
        </p:nvPicPr>
        <p:blipFill>
          <a:blip r:embed="rId1"/>
          <a:stretch/>
        </p:blipFill>
        <p:spPr>
          <a:xfrm>
            <a:off x="82440" y="77760"/>
            <a:ext cx="74422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81000" y="79200"/>
            <a:ext cx="716112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193" descr="pus476-6"/>
          <p:cNvPicPr/>
          <p:nvPr/>
        </p:nvPicPr>
        <p:blipFill>
          <a:blip r:embed="rId1"/>
          <a:stretch/>
        </p:blipFill>
        <p:spPr>
          <a:xfrm>
            <a:off x="324000" y="77760"/>
            <a:ext cx="7810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0:58:37Z</dcterms:created>
  <dc:creator>tony</dc:creator>
  <dc:description/>
  <dc:language>en-US</dc:language>
  <cp:lastModifiedBy>tony</cp:lastModifiedBy>
  <dcterms:modified xsi:type="dcterms:W3CDTF">2019-06-26T02:29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