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067-330B-404F-842C-E5E092B9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A98-8809-456B-8392-8966F6B2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3EF-BA81-4EF5-8A8E-ED74D272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065-5CC8-4D0A-A509-41694F79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8AC-950C-4C4C-9ACB-8130F64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273-8D7E-4B8D-A018-40001E4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29C-11D4-47DD-8B7D-5977CB6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7BF-DB1E-4B12-9AD0-2E3C496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040-9354-4F21-B80D-D1F662F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75F-E6F2-4178-AFD7-0FC1E4C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63C-628C-4954-B3A3-E4B0789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5C5-8AFB-41D6-8D02-1B1F4CE0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5255-37DF-4F70-9AFC-1CD0C9D62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073" descr="pus477-1"/>
          <p:cNvPicPr/>
          <p:nvPr/>
        </p:nvPicPr>
        <p:blipFill>
          <a:blip r:embed="rId1"/>
          <a:stretch/>
        </p:blipFill>
        <p:spPr>
          <a:xfrm>
            <a:off x="9360" y="26028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97" descr="pus477-2"/>
          <p:cNvPicPr/>
          <p:nvPr/>
        </p:nvPicPr>
        <p:blipFill>
          <a:blip r:embed="rId1"/>
          <a:stretch/>
        </p:blipFill>
        <p:spPr>
          <a:xfrm>
            <a:off x="11160" y="260280"/>
            <a:ext cx="74404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121" descr="pus477-3"/>
          <p:cNvPicPr/>
          <p:nvPr/>
        </p:nvPicPr>
        <p:blipFill>
          <a:blip r:embed="rId1"/>
          <a:stretch/>
        </p:blipFill>
        <p:spPr>
          <a:xfrm>
            <a:off x="9360" y="26028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145" descr="pus477-4"/>
          <p:cNvPicPr/>
          <p:nvPr/>
        </p:nvPicPr>
        <p:blipFill>
          <a:blip r:embed="rId1"/>
          <a:stretch/>
        </p:blipFill>
        <p:spPr>
          <a:xfrm>
            <a:off x="9360" y="26028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101520" y="82440"/>
            <a:ext cx="754704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193" descr="pus477-6"/>
          <p:cNvPicPr/>
          <p:nvPr/>
        </p:nvPicPr>
        <p:blipFill>
          <a:blip r:embed="rId1"/>
          <a:stretch/>
        </p:blipFill>
        <p:spPr>
          <a:xfrm>
            <a:off x="34920" y="220680"/>
            <a:ext cx="78105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0:58:37Z</dcterms:created>
  <dc:creator>tony</dc:creator>
  <dc:description/>
  <dc:language>en-US</dc:language>
  <cp:lastModifiedBy>tony</cp:lastModifiedBy>
  <dcterms:modified xsi:type="dcterms:W3CDTF">2019-06-26T02:32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