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2A76-E584-4539-8CE9-96CE98E3C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8A4F-1FC6-4114-8766-81A6ECE19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FEBF-62BD-40C0-841C-3B36EBECF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F826-33CF-499A-BD1A-F586FE892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2E17-F878-4DC0-8BFA-C8D66B41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EF0A-FE87-4A2B-8A07-5DB5CD01A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E462-EC34-4BE2-BA93-DC06A8D7A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DF79-1540-4BC8-A8DC-0CE26031C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8739-5D03-40F1-8319-5747D5AFE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936E-C0C8-4DBE-9E80-8FCDE105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04CC-3922-48B4-95A4-94AD13BD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032F-AE1A-41CD-BE1B-ED19CC2F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75411-D910-46C9-923E-6883BCF0B0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073" descr="pus480-1"/>
          <p:cNvPicPr/>
          <p:nvPr/>
        </p:nvPicPr>
        <p:blipFill>
          <a:blip r:embed="rId1"/>
          <a:stretch/>
        </p:blipFill>
        <p:spPr>
          <a:xfrm>
            <a:off x="34920" y="44280"/>
            <a:ext cx="8381880" cy="63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097" descr="pus480-2"/>
          <p:cNvPicPr/>
          <p:nvPr/>
        </p:nvPicPr>
        <p:blipFill>
          <a:blip r:embed="rId1"/>
          <a:stretch/>
        </p:blipFill>
        <p:spPr>
          <a:xfrm>
            <a:off x="34920" y="44280"/>
            <a:ext cx="8381880" cy="63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121" descr="pus480-3"/>
          <p:cNvPicPr/>
          <p:nvPr/>
        </p:nvPicPr>
        <p:blipFill>
          <a:blip r:embed="rId1"/>
          <a:stretch/>
        </p:blipFill>
        <p:spPr>
          <a:xfrm>
            <a:off x="34920" y="44280"/>
            <a:ext cx="8381880" cy="63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0" descr=""/>
          <p:cNvPicPr/>
          <p:nvPr/>
        </p:nvPicPr>
        <p:blipFill>
          <a:blip r:embed="rId1"/>
          <a:stretch/>
        </p:blipFill>
        <p:spPr>
          <a:xfrm>
            <a:off x="57240" y="95400"/>
            <a:ext cx="8377200" cy="59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7169" descr="pus480-5"/>
          <p:cNvPicPr/>
          <p:nvPr/>
        </p:nvPicPr>
        <p:blipFill>
          <a:blip r:embed="rId1"/>
          <a:stretch/>
        </p:blipFill>
        <p:spPr>
          <a:xfrm>
            <a:off x="34920" y="44280"/>
            <a:ext cx="8381880" cy="63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8193" descr="pus480-6"/>
          <p:cNvPicPr/>
          <p:nvPr/>
        </p:nvPicPr>
        <p:blipFill>
          <a:blip r:embed="rId1"/>
          <a:stretch/>
        </p:blipFill>
        <p:spPr>
          <a:xfrm>
            <a:off x="34920" y="44280"/>
            <a:ext cx="8381880" cy="63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7T10:58:37Z</dcterms:created>
  <dc:creator>tony</dc:creator>
  <dc:description/>
  <dc:language>en-US</dc:language>
  <cp:lastModifiedBy>tony</cp:lastModifiedBy>
  <dcterms:modified xsi:type="dcterms:W3CDTF">2019-06-26T02:37:15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8641</vt:lpwstr>
  </property>
</Properties>
</file>