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AE6-E6AA-4BB1-B5A6-60DE11D8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FC8D-B143-4EC2-834D-6A53213D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D2A2-D36F-4779-8FD7-6F36D56E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49AB-BE73-408C-A2E6-887B7C07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926-B079-401A-AE10-DE974C04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3439-AD8B-449F-A833-9AB41F55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419C-0981-44C3-9EA6-000C1F0A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783D-D4D1-4069-A32C-93FE2F04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BAC-DAC1-4F47-B078-C940D70B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CCE3-9EE7-473C-8ED6-18311BB4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4E1-3792-477C-80E2-5238F73D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85F-F72A-428F-9250-8E020DB9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29F8-0211-4B03-BE8E-7A896BFC9FDC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05:08Z</dcterms:created>
  <dc:creator>Online2PDF.com</dc:creator>
  <dc:description/>
  <dc:language>en-US</dc:language>
  <cp:lastModifiedBy>Online2PDF.com</cp:lastModifiedBy>
  <dcterms:modified xsi:type="dcterms:W3CDTF">2024-01-18T07:05:11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