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18A-920F-493A-9066-5D068224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A80-3109-412A-B33F-3EE0ED7F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883-1E73-4E88-A2D4-D9DFC99C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60B-3341-476E-9511-7B17A6E3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B53-3279-4430-83C4-447622F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FC7-42A6-41ED-8FCF-1689831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19F-6433-434A-A611-AF5B122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1A3-01B6-4087-A63D-22CA237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4AB-AE07-42D1-9041-F1ECC877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4F4-3FC5-4807-8F96-05A763AB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90B-197F-4C39-9D17-A6CCD4F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4F7-443E-40CB-B7AF-4AAB5C1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BBBF-A7E0-4B6B-868D-EDA532EAC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o2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16:18Z</dcterms:created>
  <dc:creator>DEll</dc:creator>
  <dc:description/>
  <dc:language>en-US</dc:language>
  <cp:lastModifiedBy>DEll</cp:lastModifiedBy>
  <dcterms:modified xsi:type="dcterms:W3CDTF">2011-05-26T07:42:06Z</dcterms:modified>
  <cp:revision>1</cp:revision>
  <dc:subject/>
  <dc:title>PowerPoint Presentation</dc:title>
</cp:coreProperties>
</file>