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93DB-C5A5-4727-AE9C-FB9B7BE57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8FA7-BCA2-479D-8043-4BA8C06C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0BC2-A4F2-4FCE-BCC5-5342824C6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1C57-9960-4F90-ACD7-6EF442C4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0617-656F-470E-B2C4-09F2E45B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7101-89AE-468B-B069-54310C6C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2701-7511-466E-8E3F-A9847D0C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1F80-932A-45AC-9A29-37A24370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075A-6390-4F88-BEEE-DFB09F13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5D3E-95D2-4E2C-8080-178B8415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8E22-F260-4250-BEF4-80BFDEC8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FE74-C587-40FB-BC69-94A31947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C400-9831-4D32-95BD-0AD0B8E124F6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05:21Z</dcterms:created>
  <dc:creator>Online2PDF.com</dc:creator>
  <dc:description/>
  <dc:language>en-US</dc:language>
  <cp:lastModifiedBy>Online2PDF.com</cp:lastModifiedBy>
  <dcterms:modified xsi:type="dcterms:W3CDTF">2024-01-18T07:05:25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