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54F44-4D26-400E-AAD9-6E5CFA9BA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EAEA-8C26-42FF-B74F-1F4048B6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A1A36-66F5-4AB6-9F58-924AC99CE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77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42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3AF77-7E83-4393-B3E0-FE628C8745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1A7ED-2914-43AB-896F-13A8AB9D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A81E3-1CB8-409F-B18A-01E95AC00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EBE6-D170-448E-9603-965FC2D1B1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5AFA-5248-4CC8-A106-5ECEC00EF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0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B19A7-01FE-44A8-A566-D014BACD2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AD74A-9310-4907-8D15-54094C60A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42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55E5-8C8A-4A6D-874D-BF74D6A25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77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42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B4103-3871-4CE0-9C44-3549A3C28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77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451"/>
              </a:spcBef>
              <a:buClr>
                <a:srgbClr val="000000"/>
              </a:buClr>
              <a:buFont typeface="Calibri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371600">
              <a:spcBef>
                <a:spcPts val="451"/>
              </a:spcBef>
              <a:buClr>
                <a:srgbClr val="000000"/>
              </a:buClr>
              <a:buFont typeface="Calibri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Calibri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08240" y="6378120"/>
            <a:ext cx="292752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82960" y="6378120"/>
            <a:ext cx="2103480" cy="34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8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70CFB-0E06-4ACC-8E40-B439AE759D7C}" type="slidenum">
              <a:rPr b="0" lang="de-DE" sz="18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object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1-18T08:05:27Z</dcterms:created>
  <dc:creator>Online2PDF.com</dc:creator>
  <dc:description/>
  <dc:language>en-US</dc:language>
  <cp:lastModifiedBy>Online2PDF.com</cp:lastModifiedBy>
  <dcterms:modified xsi:type="dcterms:W3CDTF">2024-01-18T07:05:29Z</dcterms:modified>
  <cp:revision>1</cp:revision>
  <dc:subject/>
  <dc:title>PowerPoint-Prä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reated">
    <vt:filetime>2024-01-18T00:00:00Z</vt:filetime>
  </property>
  <property fmtid="{D5CDD505-2E9C-101B-9397-08002B2CF9AE}" pid="3" name="LastSaved">
    <vt:filetime>2024-01-18T00:00:00Z</vt:filetime>
  </property>
</Properties>
</file>