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C991-D2EC-4FF2-97C6-9E26ABA6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40CB-8A2B-417D-956E-F722DFE6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0D5-A81C-4166-87EA-14AFE357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5B84-4317-41DB-8BC3-D8CA641A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0E27-81A9-4C7E-BC97-01F4237A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41C8-A6BE-491E-B13F-46F207EE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4002-04C2-47E5-90B1-6133F99E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4871-115A-4243-8D40-2F643E9D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14B4-6695-423D-ABE0-403CBBDF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6180-D17E-4432-B4C1-27ACF716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F935-361F-477C-A8CA-C70F8FB2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656A-BD15-4F11-B65F-26F557BD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F9B4-55D3-403D-BF87-3D2BB73ED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f27"/>
          <p:cNvPicPr/>
          <p:nvPr/>
        </p:nvPicPr>
        <p:blipFill>
          <a:blip r:embed="rId1"/>
          <a:stretch/>
        </p:blipFill>
        <p:spPr>
          <a:xfrm>
            <a:off x="-23760" y="-6480"/>
            <a:ext cx="916776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f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f29"/>
          <p:cNvPicPr/>
          <p:nvPr/>
        </p:nvPicPr>
        <p:blipFill>
          <a:blip r:embed="rId1"/>
          <a:stretch/>
        </p:blipFill>
        <p:spPr>
          <a:xfrm>
            <a:off x="-6480" y="6480"/>
            <a:ext cx="91504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39"/>
          <p:cNvPicPr/>
          <p:nvPr/>
        </p:nvPicPr>
        <p:blipFill>
          <a:blip r:embed="rId1"/>
          <a:stretch/>
        </p:blipFill>
        <p:spPr>
          <a:xfrm>
            <a:off x="-33480" y="-9360"/>
            <a:ext cx="917748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2:17:22Z</dcterms:created>
  <dc:creator>DEll</dc:creator>
  <dc:description/>
  <dc:language>en-US</dc:language>
  <cp:lastModifiedBy>DEll</cp:lastModifiedBy>
  <dcterms:modified xsi:type="dcterms:W3CDTF">2011-05-26T07:41:55Z</dcterms:modified>
  <cp:revision>1</cp:revision>
  <dc:subject/>
  <dc:title>PowerPoint Presentation</dc:title>
</cp:coreProperties>
</file>