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086-B49C-40BA-9BDF-D6A25105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AB7-353C-40A7-AE83-E54B2800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AB4-14EE-4C87-B281-B256C65E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E59-7216-4594-A8D1-3296827E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814-AA2D-4D8B-974D-0D296903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7AC-B223-4DD5-9047-F02EBBDC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542-A46D-4683-ABEF-0DEB76B0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1F6-9BF5-46B5-A586-091D3680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27C-8DA1-4070-BD3D-2D827D34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1B7-9CC9-41C2-A800-566AC08F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2C5-4B9D-43F5-A293-431264DC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884-346A-4065-AFBA-599453BB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9398-2BBA-4826-A6D7-6A73C4EB33B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5:35Z</dcterms:created>
  <dc:creator>Online2PDF.com</dc:creator>
  <dc:description/>
  <dc:language>en-US</dc:language>
  <cp:lastModifiedBy>Online2PDF.com</cp:lastModifiedBy>
  <dcterms:modified xsi:type="dcterms:W3CDTF">2024-01-18T07:05:37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