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6224-B377-45D6-A468-F70E6F0D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28A-A7D8-4AC1-B8B4-9C6C151E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1508-8758-45CE-8C51-09B2EC91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483-AB73-4765-9C7D-73D14D8D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1BB0-4F28-4DC3-804B-41273020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FB54-8D1E-4CC7-9FAF-EA25B57B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779F-BFA4-46DE-9252-FCB76F10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53E-A712-4C12-8FE7-F025AD42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C36-FBDE-47D4-AF1F-6C7473F41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847-81AD-4B3B-AD52-A1642D51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48E9-8DF0-4EAE-93FD-DA877215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E38-DB84-4D91-87D6-147412EA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81E4-3871-445B-BD03-05620C4DD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f31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f32"/>
          <p:cNvPicPr/>
          <p:nvPr/>
        </p:nvPicPr>
        <p:blipFill>
          <a:blip r:embed="rId2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f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f34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18:38Z</dcterms:created>
  <dc:creator>DEll</dc:creator>
  <dc:description/>
  <dc:language>en-US</dc:language>
  <cp:lastModifiedBy>DEll</cp:lastModifiedBy>
  <dcterms:modified xsi:type="dcterms:W3CDTF">2011-05-26T07:41:44Z</dcterms:modified>
  <cp:revision>1</cp:revision>
  <dc:subject/>
  <dc:title>PowerPoint Presentation</dc:title>
</cp:coreProperties>
</file>