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743-407E-4436-934E-842FA0EC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F91-71C8-4C87-A91C-6644398F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61A-B21C-4632-9B81-921804F8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4DC-3F01-4E6D-822C-03206DA6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71C-A475-4AA8-9324-7526B37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46D-ECD8-4E80-ACE2-F016CEA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03D-F2C8-4E34-9E9F-99BE4311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127-970F-446A-9C6B-2D3699F1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E3B-8D13-4DC0-9D68-C62A4B02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2B1-9980-4B7C-8BFB-CB586A27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5AA-4E36-416D-BB42-5440037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E9F-F9F2-477B-8BB9-2D9D23E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6EE7-390F-402F-A334-4D395F25C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20:09Z</dcterms:created>
  <dc:creator>DEll</dc:creator>
  <dc:description/>
  <dc:language>en-US</dc:language>
  <cp:lastModifiedBy>DEll</cp:lastModifiedBy>
  <dcterms:modified xsi:type="dcterms:W3CDTF">2011-05-26T07:41:32Z</dcterms:modified>
  <cp:revision>1</cp:revision>
  <dc:subject/>
  <dc:title>PowerPoint Presentation</dc:title>
</cp:coreProperties>
</file>