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C2F-8497-4E2E-B0C3-D4591731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650-E92C-46D2-9DB9-F209CD79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7DE-675F-4645-AE90-08973398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FDE-1881-4255-8355-C9139CEC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FCF-041A-40BB-974A-CB4311E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59D-7B30-4A5F-806D-4327E58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30C-2CC4-4CF7-97E7-6EB52A0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B3E-742D-45BE-A185-E194616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CFB-9AF8-473E-AA43-FAF98F7E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182-5364-4E64-BC88-696D1E0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031-1912-486B-8C9F-57424A66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F71-FF71-469E-9253-1226E5D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045-5741-43E0-9E5F-8E60D54B6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36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35"/>
          <p:cNvPicPr/>
          <p:nvPr/>
        </p:nvPicPr>
        <p:blipFill>
          <a:blip r:embed="rId2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38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25:15Z</dcterms:created>
  <dc:creator>DEll</dc:creator>
  <dc:description/>
  <dc:language>en-US</dc:language>
  <cp:lastModifiedBy>DEll</cp:lastModifiedBy>
  <dcterms:modified xsi:type="dcterms:W3CDTF">2011-05-26T07:41:21Z</dcterms:modified>
  <cp:revision>1</cp:revision>
  <dc:subject/>
  <dc:title>PowerPoint Presentation</dc:title>
</cp:coreProperties>
</file>