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ADA4-5B89-492F-A8FF-865493F50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1980-54EE-4455-9F67-CEBF82323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4E0B-8A68-418D-8BCB-82799A6BCE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68DF-C4B4-4FCB-A940-BDC868B59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F3126-D9D1-460A-A738-26059E13C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F63CD-A214-4722-AF5A-4D306B91B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080D7-6DD2-44AF-8AC6-A12801466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C8709-CD22-4DDA-A6B8-A1E63E405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9F081-1C01-437E-AEBC-5468C16542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241A4-6FC1-4DD0-ADAD-F90C2ADE8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F33E4-2953-4082-91A9-E6F84F20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22C01-7A9B-4F49-8DBE-A2793CAE4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A9D5B-B02E-48D5-A143-D10BB68C0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14C5-A0AE-4FC1-A06E-74AA0EEF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DBF5B-91D6-494E-94BA-283F4083A3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AF751-1C5E-4B47-9A27-4D60EEC32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D918-CC95-41CE-A74B-DA3CFA70F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B0800-7605-4721-84C7-2AFC00764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C1B2F-0827-454F-90EF-B090AAFA59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F9BED-C859-4638-9895-60C61C7FE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55F8D-721A-4530-BCB6-15787EA04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70F4-EB45-406E-8F11-C58C0FA0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4A111-9AA9-4FA1-BC41-7F22E0266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E64F-DD11-4A22-BB7A-2304637B6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E487-BBC8-4F1B-A900-365D89EB1741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C6276-2BAB-43C1-81C3-C3609F0D7735}" type="slidenum">
              <a:rPr b="0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1143000" y="3601800"/>
            <a:ext cx="6858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26T10:49:19Z</dcterms:created>
  <dc:creator>ChaiYiing</dc:creator>
  <dc:description/>
  <cp:keywords/>
  <dc:language>en-US</dc:language>
  <cp:lastModifiedBy>Microsoft account</cp:lastModifiedBy>
  <dcterms:modified xsi:type="dcterms:W3CDTF">2023-03-08T03:08:26Z</dcterms:modified>
  <cp:revision>5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8641</vt:lpwstr>
  </property>
</Properties>
</file>