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646-79DC-4D38-99A3-34523141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CEC-F8B5-4F39-81D3-15D0708D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00C-D5AF-4CEA-B54F-9B957A64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8D6-21C2-43D1-9CE9-FA35FE55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E10-200D-4CEF-B4D4-6438EC8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E0E-AE0A-4E61-8659-BAC4A52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89D-C32A-49A5-B843-396147E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5AB-5CAA-404E-91F7-3AEE2E00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ED-F62E-4888-B73D-B36681F6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285-B290-4531-9B3A-FF52DD7E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901-BB58-4AD0-80EE-B35923A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43F-F5FB-40F7-AF1A-29D1632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E906-81D8-423F-B2C2-B383C344A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19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20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2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28:37Z</dcterms:created>
  <dc:creator>DEll</dc:creator>
  <dc:description/>
  <dc:language>en-US</dc:language>
  <cp:lastModifiedBy>DEll</cp:lastModifiedBy>
  <dcterms:modified xsi:type="dcterms:W3CDTF">2011-05-26T07:41:09Z</dcterms:modified>
  <cp:revision>1</cp:revision>
  <dc:subject/>
  <dc:title>PowerPoint Presentation</dc:title>
</cp:coreProperties>
</file>