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34C-B8E4-45A2-ABFA-3A02B6E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984-826E-4D48-8C10-7C95AF90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0B9-40D7-40A2-A0CB-C06880B2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33B-B534-4BCE-9B0B-BD1380F1D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5C4-79F6-4A7F-A815-8165DDF8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968-FB38-4E3F-AC6C-1CC288CB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36C-B017-49BB-A8CD-CB1BF92C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44E-8A4C-47F7-8A46-50C32495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669C-37D9-4F4E-BA25-390627A3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9B4-9B97-4671-9CBA-80D75304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7C1-C4C3-445B-A4F6-3C8BA054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D07-445D-4274-B073-456C7DA1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6251-11A2-4BA5-8829-D599E9814309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39Z</dcterms:created>
  <dc:creator>Online2PDF.com</dc:creator>
  <dc:description/>
  <dc:language>en-US</dc:language>
  <cp:lastModifiedBy>Online2PDF.com</cp:lastModifiedBy>
  <dcterms:modified xsi:type="dcterms:W3CDTF">2024-01-18T07:05:4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