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5CE-26EE-40FF-B970-3F7F5F73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282-8302-4DAF-BCC7-BDC59815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5C2-B159-4482-A75A-2308EFD5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991-D690-4257-BCDF-1DA6A52B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B88-8B48-4228-9AF3-36FF570B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D4D-4ACA-4B07-9DDA-2932727C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8B2-452B-43FD-86FA-09C345D6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526-FC18-43E6-A468-A442361F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21D-ED52-490D-A0E1-9C64421A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59F-0C0E-4B0C-B974-268815E6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101-8C3B-49CA-B03C-7372253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454-0A96-4E30-AD38-B67EFB24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DEC4-1BFB-4204-80D4-1AB76E0B5DA2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5:48Z</dcterms:created>
  <dc:creator>Online2PDF.com</dc:creator>
  <dc:description/>
  <dc:language>en-US</dc:language>
  <cp:lastModifiedBy>Online2PDF.com</cp:lastModifiedBy>
  <dcterms:modified xsi:type="dcterms:W3CDTF">2024-01-18T07:05:5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