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C82D-1928-41AE-8442-C96337120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6224-8834-4CA9-AEA8-ECA80D5EA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7EEB-AA08-4298-B430-778A601F4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AA96-D9A7-480E-BBEB-0008A2F63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F0EC-E212-415E-BCF3-CF61D0070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3822-86EB-40E6-8B36-1233935DC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5547-68F9-4883-8E5A-741D3DD89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F77F-1FA1-4CB7-ABDE-D9B22BE11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38C2-C91D-4BF4-B4F8-3110D593F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F850-1CC9-4C75-8986-A55B2A18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ACE1-B41F-43F6-8CA2-7301985A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A9D0-243E-47BC-838B-25F8A76D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4CF49-E2D3-40CE-8718-2F91C089D6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g4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g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g6"/>
          <p:cNvPicPr/>
          <p:nvPr/>
        </p:nvPicPr>
        <p:blipFill>
          <a:blip r:embed="rId2"/>
          <a:stretch/>
        </p:blipFill>
        <p:spPr>
          <a:xfrm>
            <a:off x="-20520" y="0"/>
            <a:ext cx="9164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g7"/>
          <p:cNvPicPr/>
          <p:nvPr/>
        </p:nvPicPr>
        <p:blipFill>
          <a:blip r:embed="rId2"/>
          <a:stretch/>
        </p:blipFill>
        <p:spPr>
          <a:xfrm>
            <a:off x="-15840" y="0"/>
            <a:ext cx="9159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6T02:31:12Z</dcterms:created>
  <dc:creator>DEll</dc:creator>
  <dc:description/>
  <dc:language>en-US</dc:language>
  <cp:lastModifiedBy>DEll</cp:lastModifiedBy>
  <dcterms:modified xsi:type="dcterms:W3CDTF">2011-05-26T07:40:46Z</dcterms:modified>
  <cp:revision>1</cp:revision>
  <dc:subject/>
  <dc:title>PowerPoint Presentation</dc:title>
</cp:coreProperties>
</file>