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28-EB49-4C9F-8B1C-1AA915B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E1C-0D79-4F25-9FFB-D72A1E6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8EC-EED9-4128-92A1-A920CB37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3EA-AFF5-475D-9355-85545A7A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F5D-2DB9-436B-8204-5848E4A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4F8-2641-4DF9-9B8B-2DC506E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2C2-A143-49EA-AC98-040751B9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70-6226-4E52-B207-3D8FDAA2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78E-ABED-4475-A196-712C799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4B2-108A-44DA-8C19-7BB5F301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B28-BD5C-4BF5-8617-94F0A87C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7B4-2484-43F5-93FA-9A9BAD0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2C89-F469-4C47-9E03-18EDD1BD5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7"/>
          <p:cNvPicPr/>
          <p:nvPr/>
        </p:nvPicPr>
        <p:blipFill>
          <a:blip r:embed="rId2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2:51Z</dcterms:created>
  <dc:creator>DEll</dc:creator>
  <dc:description/>
  <dc:language>en-US</dc:language>
  <cp:lastModifiedBy>DEll</cp:lastModifiedBy>
  <dcterms:modified xsi:type="dcterms:W3CDTF">2011-05-26T07:40:37Z</dcterms:modified>
  <cp:revision>1</cp:revision>
  <dc:subject/>
  <dc:title>PowerPoint Presentation</dc:title>
</cp:coreProperties>
</file>