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79D-F044-40B6-8A65-16C4C923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2B9-8967-4E42-B6AA-F4D8F65D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A43-A288-4872-B9DC-C9F66842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307-FF96-4549-B04C-6E62CC57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6B4-9CF1-4E02-8393-1C19437B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1AA-4CB9-4850-ACA4-EA648624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BA9-97B0-418B-97E7-AC568A9E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2EC-A997-4852-BE6D-E79C95F1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561-D557-431D-A8EE-37786E2B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876-3E5D-46E4-8553-E0336B5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BC9-A5A3-4475-A332-0F432B38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56A-753D-4363-9CEE-6A2A803D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4884-9CA7-45BC-B2A4-EC0AC334E56D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5:57Z</dcterms:created>
  <dc:creator>Online2PDF.com</dc:creator>
  <dc:description/>
  <dc:language>en-US</dc:language>
  <cp:lastModifiedBy>Online2PDF.com</cp:lastModifiedBy>
  <dcterms:modified xsi:type="dcterms:W3CDTF">2024-01-18T07:06:00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