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FD93-F5D4-4375-A798-84E488265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7A17-375F-40D5-863E-A618B17BB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BC65-3709-4B6A-A6A7-C757CC316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2822-9350-4D6C-AABD-D8D0C1FEA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9151-2A5C-4F6B-8014-08D21BCA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AB9A-9E09-4E7C-9114-9EB835B6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7608-7F5B-451D-961A-0079FB29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BFED-B886-4FFD-99CA-95B3DA09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B91E-4533-4D43-8137-7C3BA113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C7D0-8388-4886-BDBB-1C8E3CFB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B69D-F735-46E6-98D9-65CD59AB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CC9D-3983-4F26-8485-A0823D74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F21E-C28E-4804-B0A8-5881A2442666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18T08:06:04Z</dcterms:created>
  <dc:creator>Online2PDF.com</dc:creator>
  <dc:description/>
  <dc:language>en-US</dc:language>
  <cp:lastModifiedBy>Online2PDF.com</cp:lastModifiedBy>
  <dcterms:modified xsi:type="dcterms:W3CDTF">2024-01-18T07:06:07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4-01-18T00:00:00Z</vt:filetime>
  </property>
  <property fmtid="{D5CDD505-2E9C-101B-9397-08002B2CF9AE}" pid="3" name="LastSaved">
    <vt:filetime>2024-01-18T00:00:00Z</vt:filetime>
  </property>
</Properties>
</file>