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480-71D4-4E23-9CA7-97F9A3C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F1A-337B-42E1-851B-6EAE5233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9BF-13C2-48BF-88F1-1266E076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091-3895-4AC5-B058-D5B05E7E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B4A-79F5-4EF7-ABA1-FB27B45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640-0CC2-4F42-8C38-21C1BFF5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307-08D6-4C12-B085-9A765B04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D0F-0A82-4728-9787-D04D41F5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C7F-E6BF-43FE-A3D4-45A8156E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30A-69D9-4FB2-A8B3-B8D4B0D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144-0851-40AF-BE24-B793372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D4E-0DC2-43CD-BD54-0C068023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9C85-A063-470F-AB33-010F8ACBF2E7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09Z</dcterms:created>
  <dc:creator>Online2PDF.com</dc:creator>
  <dc:description/>
  <dc:language>en-US</dc:language>
  <cp:lastModifiedBy>Online2PDF.com</cp:lastModifiedBy>
  <dcterms:modified xsi:type="dcterms:W3CDTF">2024-01-18T07:06:1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