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5CB-C285-46B8-A6AC-E105808C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1BB-50C0-406E-8155-A7B1E4A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8CA-5D35-40E3-8B66-2C0A0617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DD0-71CA-49D3-B214-89CA68F8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184-7ED1-4CDD-9583-99B7A2F2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C49-38E8-48E8-ABDD-F68BA5A2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26C-988F-4AD3-908F-18AA622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A2B-68C8-48D1-8623-A03C75B6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D42-34D8-41C4-94AF-1B3CB48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1C8-B022-4219-B19F-646DCDB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6F8-2922-470D-9199-FE3E744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15C-BC8A-43DC-8E02-6FBD614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3D6C-7663-436B-9154-6EE0C22B7477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15Z</dcterms:created>
  <dc:creator>Online2PDF.com</dc:creator>
  <dc:description/>
  <dc:language>en-US</dc:language>
  <cp:lastModifiedBy>Online2PDF.com</cp:lastModifiedBy>
  <dcterms:modified xsi:type="dcterms:W3CDTF">2024-01-18T07:06:19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