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ACAF-B44A-45B4-9DF5-9C6DCB4A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90A-8B2F-472F-9419-EF01F46F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A88-A7E0-4222-A1E4-6AEC8FA5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FF1-EC54-4A53-89C3-134887C9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9FD-F766-429E-B7D9-02B305D9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5C6-BEFB-45AC-ACFA-F4D8E037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D6B-E939-44B8-8A02-38D478CA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75D5-0FB1-402B-9608-0E379A47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6E6-8559-41D2-8E64-BF700258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067-008A-48BF-8E3B-A16A3F5B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77C0-0B6A-4E75-9E94-23694B71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E81-DB13-496F-BEE3-47AE82A5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1F99-ABA9-4329-9092-C6E8168A6E0F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06:23Z</dcterms:created>
  <dc:creator>Online2PDF.com</dc:creator>
  <dc:description/>
  <dc:language>en-US</dc:language>
  <cp:lastModifiedBy>Online2PDF.com</cp:lastModifiedBy>
  <dcterms:modified xsi:type="dcterms:W3CDTF">2024-01-18T07:06:25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