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C421-6F94-4297-92E2-C32135D71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F4D5-3DED-4367-9680-CAEA03841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EF76-2B56-452D-A699-499E93852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6DD6-EF6A-43FA-8FBF-C1EED9C1E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45BD-A5D8-48AC-810F-44D33603C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93DA-D8CB-433E-BA80-53E88ABE9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52DD-65AD-4CE8-BBB4-8716E811E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CC97-9A8C-4264-85C7-813447010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D759-0A2A-4F4D-8058-C425B5FEB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243A-4BAA-4057-8C27-CE3A9DC4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2D9A-4105-48A4-80E4-A23F5145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602C-E776-4902-978B-D9F15ACA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08240" y="6378120"/>
            <a:ext cx="29275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45684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296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A623D-2A20-4D7D-BB24-E1514091EDE0}" type="slidenum">
              <a:rPr b="0" lang="de-DE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1-18T08:06:28Z</dcterms:created>
  <dc:creator>Online2PDF.com</dc:creator>
  <dc:description/>
  <dc:language>en-US</dc:language>
  <cp:lastModifiedBy>Online2PDF.com</cp:lastModifiedBy>
  <dcterms:modified xsi:type="dcterms:W3CDTF">2024-01-18T07:06:30Z</dcterms:modified>
  <cp:revision>1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24-01-18T00:00:00Z</vt:filetime>
  </property>
  <property fmtid="{D5CDD505-2E9C-101B-9397-08002B2CF9AE}" pid="3" name="LastSaved">
    <vt:filetime>2024-01-18T00:00:00Z</vt:filetime>
  </property>
</Properties>
</file>