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C5D-A4EC-4674-BF27-B472D748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CCA4-E1BD-453B-A702-2D6B752B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97A3-91FB-4F2B-B047-D8D5FDDC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5B1D-4B51-44C2-B5D8-989B502E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AFA-F6CB-4714-8942-87A40333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980-BFA0-4738-882D-184A4662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B98B-615F-4808-AEE8-E214A47E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910-AC66-4BBD-995C-EE7E868B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893-EE4B-4025-BE3E-BA42F3FD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8960-D3D4-4B61-9427-C12125A7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8C4-9F8C-47FD-B7C4-141FD1C7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2BBB-5A74-4508-B568-76C365DE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ACC5-9FBF-4119-A4A9-A36F398A6BCC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06:35Z</dcterms:created>
  <dc:creator>Online2PDF.com</dc:creator>
  <dc:description/>
  <dc:language>en-US</dc:language>
  <cp:lastModifiedBy>Online2PDF.com</cp:lastModifiedBy>
  <dcterms:modified xsi:type="dcterms:W3CDTF">2024-01-18T07:06:38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