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089-152A-4D00-955B-9F801B3F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0156-76F6-4140-9E0D-38043267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47A-8407-4CC7-BBB8-EAED94B2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8DD-C8BB-4AF2-B1FF-CAE3A841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7A2-9457-4B9E-9957-E245CC21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500-E682-4226-AAE0-20E46D94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380-D183-4C6D-9405-3C724355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FE8D-E4F6-434B-BA53-CFBCAC34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B9F-9FD4-4ADB-8C80-3E2DD19C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9027-FB0A-4694-AAB2-C073F098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913-6A14-48EB-A834-97C00BE2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ED8-1E61-4931-BF3C-20FD4DA0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F8E8-DFDA-42F1-8DAB-1F51B8E05BED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06:40Z</dcterms:created>
  <dc:creator>Online2PDF.com</dc:creator>
  <dc:description/>
  <dc:language>en-US</dc:language>
  <cp:lastModifiedBy>Online2PDF.com</cp:lastModifiedBy>
  <dcterms:modified xsi:type="dcterms:W3CDTF">2024-01-18T07:06:42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