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E7AC-9D33-465B-928A-8ACA05764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9E8D-D507-4CA1-B9A6-2821FD74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EAB8-D46E-4751-BBA1-5E7E59D7B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6F8A-1A9D-496E-9211-DD0755CE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6C89-A01E-400B-888A-8388C062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18F6-4B3B-4CA3-BBC8-6B782956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B079-A0DB-47F3-BF9C-32E8D4E0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7886-F33A-4094-80A7-18D8EC96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028C-EAB8-475F-99D7-51EC5082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5688-0118-42DE-968E-C0272517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BD1E-80A4-4E83-AFAF-7F04D608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8FD5-B664-4787-BD9E-40041EDC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C5D6-369F-4E7F-8908-4E09BAD33BFE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06:57Z</dcterms:created>
  <dc:creator>Online2PDF.com</dc:creator>
  <dc:description/>
  <dc:language>en-US</dc:language>
  <cp:lastModifiedBy>Online2PDF.com</cp:lastModifiedBy>
  <dcterms:modified xsi:type="dcterms:W3CDTF">2024-01-18T07:07:00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