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7A6A-BF52-4C42-8501-7E9CB8D8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872B-B6D9-4AFB-AF1E-E46D18BC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61A3-01C1-4120-9FE9-00F344C3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F6A1-E1AA-4589-A467-709A3463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86A0-35E1-415B-8945-1242DF2F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0C56-1249-4601-8428-F7C987C0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A4E7-BA92-4110-A753-735F2098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F378-5740-4531-9CE9-D33ABFB0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31B9-7230-4CE5-A4CA-5408C4A6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E35E-4CED-43B1-8164-AA86D65B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C1D7-7B24-4C8D-92D0-C88AA94E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DDA1-F944-4DAF-9884-F883BA50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k object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5644-B4D3-4D97-AC9D-C2CB7EB43AC4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07:03Z</dcterms:created>
  <dc:creator>Online2PDF.com</dc:creator>
  <dc:description/>
  <dc:language>en-US</dc:language>
  <cp:lastModifiedBy>Online2PDF.com</cp:lastModifiedBy>
  <dcterms:modified xsi:type="dcterms:W3CDTF">2024-01-18T07:07:05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